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482-037D-47F2-9D95-D9C60FAC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102-181D-4A4D-B7FD-91CC3A77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B3D-4D67-43E6-8E41-C25958F6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301-5BE3-47F0-B0F9-3A0C52CE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AFF-8A41-4450-A3A1-4C7C2FFF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381-0709-4FE4-9C3D-063605ED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8B8-E557-4A41-85B3-6738A0DE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239-F61C-4A3B-90FA-8595CB93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596-AC58-45CC-88AB-E06C93E4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D0B-C5A0-4312-8C00-93C048F8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4D7-9DC0-45CD-969A-0AD479A6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B74-6B3E-4635-B054-BE18EFDB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1AAA-A6C3-40DA-89E7-6C4839F5C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Шећерна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ханизми настанка хроничних компл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рбитолски п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ксозамински п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ензимска гликолиз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ећано стварање диациглицер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кутне компликације дијабетес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јабетесна кетоацид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актатна ацид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јабетесно некетогено хиперосмоларн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ипогликемија у дијабете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РОНИЧНЕ КОМПЛИКАЦИЈ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ДИЈАБЕТ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икроваскулар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љења 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тинопатија (непролиферативна, пролиферативн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куларни ед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тара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лауко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ропат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нзитивна и моторна (моно и полинеуропатиј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утоном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фропатиј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кроваскулар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ест коронарних арте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иферна васкуларна бол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реброваскуларна бол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руг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астроинтестиналне (гастропареза, дијаре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итоуринарне (уропатије, сексуалне дисфункц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жн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ерапија Дијабет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венција настанка акутних и хроничних комплик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Акутне компликациј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Хипогликемиј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Хипергликем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Хроничне компликаци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Микроваскулар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Макроваскулар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ерапијски циљев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ХбА1ц, глике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Липопроте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Артеријски притис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одификације животних стилова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Lifestyle modifications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умани инсу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утралне суспензије биосинтетског хуманог инсул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изводе се рекомбинантном ДНА технологијом која користи ћел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сца (инсулин хумани – кратког дејства; инсулин хумани – средње дугог дејст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(инсулин средње дугог дејств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рмакокинетички профил класичних егзогених инсу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гуларни хумани инсулин има велики афинитет ка асоцијацији молеку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јчешће се регуларни-кратко-делујући инсулин налази у облику хексам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 би се апсорбовао, хексамер мора дисоцирати до димера, димери до до мономера, да би се тек у облику мономера апсорбовао у капиларно корито у субкутаном сло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је могуће верно репродуковати у постпрандијалну-стимулисану секрецију инсулина код здраве осо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арати инсу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умани инсулини: Регулар, Изофан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H -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eutral Protamine Hagerdon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), Ленте, ултрален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сулински аналози: Аспарт, лиспро, глулисин, гларгин, детемир, деглуд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миџ инсулини (бифазни инсулини = базални + прандијални инсулин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сулин средње дугог дејства у комбинацији са инсулином кратког дејства, хумани: Хумалог миџ (70% НПХ + 30% регула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сулини средње дугог дејства у комбинацији са инсулином кратког дејства , аналогни: Хумалог (50% НПХ + лиспро); Новолог (70% НПХ + 30% аспар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Гларгин и детемир не могу се мешати у истом шприцу са другим инсулиним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арати инсу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143000"/>
          <a:ext cx="8229600" cy="4581360"/>
        </p:xfrm>
        <a:graphic>
          <a:graphicData uri="http://schemas.openxmlformats.org/drawingml/2006/table">
            <a:tbl>
              <a:tblPr/>
              <a:tblGrid>
                <a:gridCol w="3292560"/>
                <a:gridCol w="1644480"/>
                <a:gridCol w="1646280"/>
                <a:gridCol w="16462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сте инсул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нетика деловања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ј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Краткоделујући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ткоделујући аналог инсу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ткоделујући хумани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-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-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-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-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редње делујући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њеделујући аналог инсу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фан (НПХ) хумани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те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-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-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-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-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-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-1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-1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Дугоделујући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траленте хумани инс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-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-1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-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улински аналози аналози брзог и кратког деловања (лиспро, аспарт, глулис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14280" y="14288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симум деловања унутар 1х, уз укупно трајање до 4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ичан ефекат код свих болес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ипогликемијски потенцијал  исти или већи од хуманог – регуларног инсул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 су неимуногени, хемијски стабилни и погодни за мешање са другим инсулинима или аналоз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ткоделујући инсулински аналози налазе се и у фиксним комбинацијама – инсулинима са бифазним деловањ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фазни аспарт инсулин (30% аспарт инсулин + 70% инсулин аспарт протамин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фазни лиспро инсулин (25/75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ифазни инсулини (премиџ инсулини): НПХ + аспарт или лисп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сулин, антихипергликемијски ефек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тенцира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Орални антихипергликемиц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АЦЕ инхибитор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екстропропоксиф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иизопирам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ибра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луоксет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АО инхибит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ентоксифи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алицила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улфонами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дукуј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ортикостерои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аназ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иазокс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иурет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Глукаг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зониаз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Естрог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рогестаг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Деривати фенотијаз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оматотроп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импатомиметици (адреналин, салбутамол, тиреоидни хормо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4857840" y="333360"/>
            <a:ext cx="3579840" cy="2666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Spina etiam gratia est, ex qua spectatur ros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Omnia mutantur, nihil interit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тофизиологија ДМ тип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штећено лучење инсу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сулинска резист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ксцесивна глуконеогенеза у јет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емећаји метаболизма м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јазност, нарочито висцерална и централна, нарочито честа у ДМ тип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дипоцити луче већи број биолошких продуката (лептин, фактор туморске некрозе алфа, слободне масне киселине) који мењају процесе као што су лучење инсулина, дејство инсулина и телесна маса, а могу да допринесу инсулинској резистенциј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ални &amp; парентерални антидијабетици - неинсулински (хипогликемиц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огликемици који стимулишу лучење инсулина и инхибирају ендогену продукцију глукозе из јетре – могу довести до пада нивао гликем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лфонилуре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глитиниди (деривати бензојеве кисел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тихипергликемици који побољшавају деловање инсулина, али не стимулишу лучење инсулина, не инхибирају ендогену продукцију глукозе - не могу проузроковати хипогликем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гвани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хибитори алфа-глукозида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иазолидинедиони (глитазо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ози инкрет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илински анало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4857840" y="333360"/>
            <a:ext cx="3579840" cy="2666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Драг је и трн из којег вири ружа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Све се мења, ништа не пропад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јабетес меллитус обухвата групу сличних метаболичких поремећаја који се фенотипски испољавају хипергликеми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висно од епидемиологије дијабетес мелитуса, фактори који доприносе хипергликемији могу да обухва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ањено лучење инсул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ањено коришћење глик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ећано стварање глик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ифика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М тип 1 (нема превенци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унолошки посредов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диопат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М тип 2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self managemen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је суштин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ги специфични типови дијабет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стациони дијабетес мелит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аматично повећава последњих деценија (~ 3% опште популаци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зраст &lt;20 година  → преваленца 0,1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зраст &gt;20 година → преваленца  8,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зраст &gt;65 година → преваленца 20,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јабетес Тип2 – водећи узро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фропатије – 44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уропатије – 60% нетрауматске ампутације доњих екстрем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тинопатије – 28,4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Ћелије панкреасних острваца и њихове фун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2543040"/>
                <a:gridCol w="2357640"/>
                <a:gridCol w="3328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ћел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нат заступље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орни продук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 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кагон, проглукаг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 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ин,  C peptid, проинсулин, амил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ta 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матостат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il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ел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 ćelije (PP ć, Gama 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креасни полипепт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нсули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осинт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кре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сулински рецеп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анспортери глуко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ј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тогенеза шећерне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абетес мелитус тип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абетес мелитус тип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штећено лучење  инсул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ндром инсулинске резист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6-09-04T11:41:11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